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F2E-9D8C-42A4-BB1B-A6034707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2E6-0DB6-4845-AEFB-121CEFD0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7578D-F8DC-4B46-8680-A4C1A95A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C5EB0-135C-4D10-B236-DB798842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A90E9-6776-4680-AC72-B812E81A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30F54-9D00-4FB3-B49E-A0A4DDB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A7978-5772-416E-B31D-4E898A65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D086D-57A7-4E08-9B9C-D3E9EF23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7A8AB-493A-4682-8064-F6FB53BA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4F2AF-79F5-453B-BDBD-EF345450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DC2A5-BCFE-497E-B9EB-36C5F5C9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82F-B923-45AA-8D75-7CD1C4DF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203-F4E9-44AD-B61A-17C64755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D8FF-159E-4B3C-8888-D9454805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E164-3CE6-47A1-9AA6-14A2A785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122E-C96C-4A16-A4F0-7FA2E0CD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DEB6-5838-4B17-90D0-7B5B37FB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CD9F-CF40-4E11-B267-28567085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18E2-687F-4FCD-BA4E-4F99CC9D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CBFD-3B5E-445E-94DC-4DBAD15D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E82-D75F-42B0-B9AA-5593FE45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8AEB-D7E5-406F-B127-0A1FA3A9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5972-789E-423E-8FDF-B761AC08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D656-3FE1-4143-AFBE-474FA2A3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E8EF-DAEF-4D06-A23F-447FE7E9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1392-9130-4991-B591-317F9D9E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70C0-D01B-4761-992C-38C70905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C528-80AB-4D53-8B5A-2CE0A694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9EF3-AA49-47BA-BAB7-DF7FD70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BD46-9EFA-47F2-AF97-8BE67E88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462E-DB53-4BD5-B11E-02853D6F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D67-E607-408E-8630-F3499A02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2A8B-23DF-4B65-9BA6-C28B6CF4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E707-E754-4769-81D7-00391E26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67929-FC18-4FF9-B049-0452D4C5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9CD0-EA97-451F-A317-3456C45D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941F-7BAF-4556-835D-70F47AEF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447E-8595-41D3-A379-AA1583D9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8499-6DA1-4619-B2A3-46E2A56A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C98EA-CD93-41FE-BBBF-DC54E47E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8DCE3-29FA-4C65-B6FA-E4CF4528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DC25-FB24-4C0D-BA74-EDE3D8F6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5B1-2741-43E7-A647-561B4463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642F-AD14-449C-A5CA-7D299EAA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7952-4729-45DB-AA5E-274CBF9F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046E-8C0B-4382-855E-3295F6A4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B122-9D2D-46D7-AB69-0028912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5A9A-4847-4585-A4F7-9A2D2E0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BE78-C6FB-4DD4-8B46-F708313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31C6-1B7A-4106-984C-143C9590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E513-0B35-4994-BE72-EA00406F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68479-E964-4D51-836E-24C63B8F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6FAC7-603A-491D-943E-4988337E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A07-CD78-4BAD-A300-FD8B2A61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92F52-69A0-4515-85FF-FBE9AA47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15369-036B-491D-A6A8-B36FDB02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C974-ABA2-44D4-AA43-223B1C92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E847-E7F5-41F9-A1E6-EE9D99A6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67F3-35EE-4D9E-A7FB-BB5AA28B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0E679-D6E4-4930-B4F7-7E51CD9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517B-DAD6-48BA-8338-4D380EA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B77FA-E219-43EE-A9A2-E94D17C2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35EE-17FA-4DA8-801F-A28A5C16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CA8D-3216-43EE-9160-F0F181C5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404-9CB6-44CF-BFCB-FCE8D779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39B6-0FC6-402C-8B77-D0E26BA5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25CF-7B9B-4E61-B804-B8712E52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B009F-582C-4658-AD8E-3B5C5E68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53185-05D4-472D-A172-3A4FB4BF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2963D-8F4A-43CF-A847-5E91A41F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4561-5DC4-4C72-9CAE-F2FE1309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4323-CD2D-435B-AAB3-6BE07D85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5889-CC9A-408C-B2EA-A2853B7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EE4D3-A265-430D-9B26-73B090F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D64B8-1BF7-4045-8103-2B4A2F04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022-7675-44F3-9BB6-74DCE120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DE3B-F985-4A35-98A2-6C1B449D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11965-2D44-4398-8F97-848B3693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60436-2272-415F-BAA9-280D1DB1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B60A9-EFC3-45AF-B421-E18DD7C7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524E-95CC-4110-8D94-AE7270A2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F98F-D4D1-4DCE-A0B2-3C102845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FF10-EFB4-4F73-A5BE-5AFC6222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D8BB6-349F-4206-82BE-27F2553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62AC2-F226-49FE-BCE5-A55398E8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0074C-3B31-4856-9ECF-6D9009A2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5FF-58D8-4A3D-B7B4-17C74C1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7A6AA-5D21-431E-BD7C-7E22B17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30534-4EEC-4CAC-9020-870B3F64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A1420-8EDC-4579-AB70-40B9755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553C3-B152-4ABD-A073-30A9D158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8C27-F968-4640-A410-BD414E69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23129-FB16-4C33-92BD-85711BEC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5DF6C-2483-418A-BCDA-71D781CC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FDCD9-1615-4BF3-9FD4-97DFB491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8071-FD3B-4FDD-A83D-2AD2547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5F539-E090-49E2-8E7C-DB850A55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0EF-A17C-48AA-AD37-11CA639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B914A-F7F6-46CA-8CD6-1E760657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0DA9E-5FBA-44A9-9906-995F03BB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863D2-28FC-4574-BE5C-CB2E9C12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CE458-0FD9-40D9-ACA7-0D9C667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3313F-BD5C-4E68-87D6-71AF931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8DB11-459B-4C71-B146-FE2DFDDC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9325E-985A-492F-84C0-64EF4BAC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8D8CA-866D-4E0B-9332-B8616CF7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B6C8E-CAA9-4C1A-B604-641EEB50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CE7E9-78AE-4560-AB95-7A3D76CD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E452-CB0F-4A84-92E7-65909962E201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0CE8-C0A5-4792-8775-0E11A386CAD1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7EB3-7ECA-440F-AB2C-7AA4598A3E40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EC27-5ADB-4B22-A4A5-38B6836E8E89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5CAA-1482-4925-BE88-C1C73CEF2FFF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A8F7-F44A-411D-8358-A3FC57FBCD49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B630-DA88-43A4-9979-1A0063910E3C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B78E-769B-484D-8F82-BFF3F9461D14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A4B9-AC90-4F48-8C22-845E99185B24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D:\Meus Documentos\Pictures\moros de camapua.jpg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2" name="Retângulo 3" descr=""/>
          <p:cNvPicPr/>
          <p:nvPr/>
        </p:nvPicPr>
        <p:blipFill>
          <a:blip r:embed="rId2"/>
          <a:stretch/>
        </p:blipFill>
        <p:spPr>
          <a:xfrm>
            <a:off x="-433440" y="-171360"/>
            <a:ext cx="1018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4e3b30"/>
              </a:solidFill>
              <a:latin typeface="Arial"/>
              <a:ea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-360"/>
            <a:ext cx="9144000" cy="80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Utilizar os tablets 10” para responder questionários online ao qual houve previamente verificação do professor para com o conteúdo referido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O professor pode montar um slide que aborde diversas questões sobre seu conteúdo e disponibilizar o material na pasta da disciplina na STE para que os alunos possam estar respondendo em futuras aulas no espaço da ST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Trabalho em forma de seminário, dado um tema (roteiro) para o aluno ele elabore uma apresentação para posteriormente realizar a exposição aos colegas e professores esclarecendo o assunto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Sei que é uma prática antiga mais acontece muito como situação de avaliação,  é a confecção de uma apresentação pelos alunos e posteriormente a apresentação da mesma para o professor (a) e colegas em forma de seminário onde todos participam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Uma situação de avaliação que alguns colegas vem utilizando é auto-avaliação mais de maneira bem simples e com caráter corretivo, unicamente para os alunos mesmos se policiarem. Acontece aulas de leitura ou declamações com microfone e som e em outras utiliza-se o gravador de maneira que eles mesmos possam verificar e corrigir vícios de linguagen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O principal item que muitos dos colegas já realizam é o planejamento, sendo que alguns ainda não tem idéia de como podem otimizar sua aula planejando de maneira correta como por exemplo: Levar os alunos na STE com site previamente pesquisado onde abrangerá melhor o conteúdo ou ter olhado nos jogos educacionais e verificar a coerência com o conteúdo, entre outro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Ainda com relação a STE penso que os professores devem estabelecer critérios para realizar a avaliação como, propor roteiro a ser cumprido (meta) na ST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Já com os recursos de som e imagem deixar os alunos serem os protagonistas, deixando um pouco de lado a aula expositiva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21:38:48Z</dcterms:created>
  <dc:creator>Alessandro</dc:creator>
  <dc:description/>
  <dc:language>en-US</dc:language>
  <cp:lastModifiedBy>Alessandro</cp:lastModifiedBy>
  <dcterms:modified xsi:type="dcterms:W3CDTF">2015-08-24T23:07:07Z</dcterms:modified>
  <cp:revision>12</cp:revision>
  <dc:subject/>
  <dc:title>Slide 1</dc:title>
</cp:coreProperties>
</file>